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9AE-24B0-4B3A-93BB-75D315F9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0E2-8125-427D-9787-5AB63B3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083-526D-4C9D-9871-DFEBC2B6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06C-C620-4C7E-B34A-3D02A417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282-46D6-46FD-8168-67DE0120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EF8-1078-494D-B439-F6AF0E14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98D-E49E-4ED8-8649-7F5760FE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5D0-FAB6-49B2-A627-FC4AF2E4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447-52FF-46DB-8BC2-50262992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5C2-2AFB-46A4-9D80-4F9C83E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EE2-48A3-4C78-A59C-914F245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DBC-9C71-4AFC-B685-44D4296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E60E-7995-4EF0-8557-F82B43E9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Por Zhakeria y Rich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s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Mathma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sp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s Prof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 Abog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Veteri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Den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Bomb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Cart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rofessor Frink Wallpaper"/>
          <p:cNvPicPr/>
          <p:nvPr/>
        </p:nvPicPr>
        <p:blipFill>
          <a:blip r:embed="rId1"/>
          <a:stretch/>
        </p:blipFill>
        <p:spPr>
          <a:xfrm>
            <a:off x="4876920" y="1981080"/>
            <a:ext cx="33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40:53Z</dcterms:created>
  <dc:creator>WSFCS Workstation</dc:creator>
  <dc:description/>
  <dc:language>en-US</dc:language>
  <cp:lastModifiedBy>WSFCS Workstation</cp:lastModifiedBy>
  <dcterms:modified xsi:type="dcterms:W3CDTF">2010-04-26T18:56:50Z</dcterms:modified>
  <cp:revision>2</cp:revision>
  <dc:subject/>
  <dc:title>La clase de Espanol</dc:title>
</cp:coreProperties>
</file>